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png" ContentType="image/png"/>
  <Override PartName="/ppt/media/image21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D7E20-E19A-4538-AB87-06BC8D564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B9E97-1426-44C3-927E-76652C54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C0E66-A748-44B5-B87A-2D6160734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E45B9-E647-4ED1-9B08-7C842743F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E2B1C-ED7D-4867-9841-75429FE81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5D10-8943-4F61-B8B0-F5DA5057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58B9-28C5-48ED-90FC-753B005F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4B2C-BD7F-41A6-96CB-FC5BDD9B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6EDC-B334-4770-8A89-4BCD2CFB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E36F-C13D-4EDE-A2A0-367E6C22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C5A45-849F-4F6F-9B77-3C009097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0E1EC-B698-411D-B0DB-495DD76F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A929-F692-4331-9C6E-B8049C27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CE082-2843-4BC8-BF1E-31A20C06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4940-2E35-4279-8B99-74CDD1C7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4939-BF47-4C45-98EB-39135D463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1060-8DD0-48A0-8BA0-D8BE6C025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5D771-DE98-45D4-B319-F097583B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A126B-96F6-481B-AB2D-6CA6F523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1AD82-3F1E-4D30-B34F-D9189D2B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550E7-FEF1-444F-9963-8884A966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42E04-C900-41D9-AB2E-ACD21CCB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D01FF-6EC0-4062-842D-85FCFE2D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53E51-BBC6-4FF3-AC95-4359F120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457C-9303-4086-A805-823EB0E322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3F62-7599-4D5E-AB3C-AF3DEBA83D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1413000"/>
            <a:ext cx="8161200" cy="19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700"/>
            </a:br>
            <a:r>
              <a:rPr b="1" lang="en-US" sz="5700" spc="-1" strike="noStrike">
                <a:solidFill>
                  <a:srgbClr val="c00000"/>
                </a:solidFill>
                <a:latin typeface="Arial"/>
              </a:rPr>
              <a:t>Судьбы жертв фашистского режима</a:t>
            </a:r>
            <a:br>
              <a:rPr sz="3400"/>
            </a:br>
            <a:r>
              <a:rPr b="0" lang="en-US" sz="34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Урок - конференция учащихся 11 класса</a:t>
            </a:r>
            <a:br>
              <a:rPr sz="41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85480" y="3357360"/>
            <a:ext cx="864396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Урок- конференция  для учащихся 11 класс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проблемные и малоизученные вопросы 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Великой Отечественной войны). </a:t>
            </a: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532720" y="6165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987640" y="4869000"/>
            <a:ext cx="590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тор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Юдина Т. Г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 информатики и ИКТ Макаренко Э.В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 музыки Хромова М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 русского языка и литературы Канцидал Т. 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393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тарбайтеры – жертвы  фашизм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-360" y="2642760"/>
            <a:ext cx="89298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одержимое 2"/>
          <p:cNvSpPr/>
          <p:nvPr/>
        </p:nvSpPr>
        <p:spPr>
          <a:xfrm>
            <a:off x="3714840" y="2857680"/>
            <a:ext cx="5000400" cy="24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7"/>
          <p:cNvSpPr/>
          <p:nvPr/>
        </p:nvSpPr>
        <p:spPr>
          <a:xfrm>
            <a:off x="357120" y="1214280"/>
            <a:ext cx="857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"/>
          <p:cNvPicPr/>
          <p:nvPr/>
        </p:nvPicPr>
        <p:blipFill>
          <a:blip r:embed="rId1"/>
          <a:stretch/>
        </p:blipFill>
        <p:spPr>
          <a:xfrm>
            <a:off x="3635280" y="2060640"/>
            <a:ext cx="5042160" cy="2428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"/>
          <p:cNvPicPr/>
          <p:nvPr/>
        </p:nvPicPr>
        <p:blipFill>
          <a:blip r:embed="rId2"/>
          <a:stretch/>
        </p:blipFill>
        <p:spPr>
          <a:xfrm>
            <a:off x="203040" y="2060640"/>
            <a:ext cx="3140280" cy="4437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8"/>
          <p:cNvSpPr/>
          <p:nvPr/>
        </p:nvSpPr>
        <p:spPr>
          <a:xfrm>
            <a:off x="3635280" y="4724280"/>
            <a:ext cx="51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rbeitsbuch FürAuslãnder - рабочая книжка остарбайтера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удьба остарбайтера, Неленя Дмитрия Филиппови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2303640" cy="3529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2"/>
          <a:srcRect l="40456" t="20205" r="22212" b="7661"/>
          <a:stretch/>
        </p:blipFill>
        <p:spPr>
          <a:xfrm>
            <a:off x="5867280" y="2421000"/>
            <a:ext cx="2305080" cy="3600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"/>
          <p:cNvPicPr/>
          <p:nvPr/>
        </p:nvPicPr>
        <p:blipFill>
          <a:blip r:embed="rId3"/>
          <a:srcRect l="39810" t="20059" r="35315" b="20973"/>
          <a:stretch/>
        </p:blipFill>
        <p:spPr>
          <a:xfrm>
            <a:off x="3348000" y="2349360"/>
            <a:ext cx="2016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3162240" cy="3887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3564000" y="3112920"/>
            <a:ext cx="5256000" cy="3394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"/>
          <p:cNvPicPr/>
          <p:nvPr/>
        </p:nvPicPr>
        <p:blipFill>
          <a:blip r:embed="rId3"/>
          <a:stretch/>
        </p:blipFill>
        <p:spPr>
          <a:xfrm>
            <a:off x="395280" y="4076640"/>
            <a:ext cx="3143160" cy="243360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6"/>
          <p:cNvSpPr/>
          <p:nvPr/>
        </p:nvSpPr>
        <p:spPr>
          <a:xfrm>
            <a:off x="3203640" y="357120"/>
            <a:ext cx="54403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ССР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потерял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 Великой Отечественной войн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3,7 млн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еловек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ражданского на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ЕДПОЛОЖИТЕЛЬНОЕ ЧИСЛО ПОГИБШИХ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СЛЕДСТВИЕ ХОЛОКОСТА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786800" cy="5229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404820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0438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России так:              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      В Германии так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357120" y="1071720"/>
            <a:ext cx="8453520" cy="5500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06027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исунки немецкого солдата Юргена Бетельсман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000ccxr9"/>
          <p:cNvPicPr/>
          <p:nvPr/>
        </p:nvPicPr>
        <p:blipFill>
          <a:blip r:embed="rId1"/>
          <a:stretch/>
        </p:blipFill>
        <p:spPr>
          <a:xfrm>
            <a:off x="179280" y="1773360"/>
            <a:ext cx="2737080" cy="2374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000cbbdb"/>
          <p:cNvPicPr/>
          <p:nvPr/>
        </p:nvPicPr>
        <p:blipFill>
          <a:blip r:embed="rId2"/>
          <a:stretch/>
        </p:blipFill>
        <p:spPr>
          <a:xfrm>
            <a:off x="2916360" y="1773360"/>
            <a:ext cx="3240000" cy="2395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s640x480"/>
          <p:cNvPicPr/>
          <p:nvPr/>
        </p:nvPicPr>
        <p:blipFill>
          <a:blip r:embed="rId3"/>
          <a:stretch/>
        </p:blipFill>
        <p:spPr>
          <a:xfrm>
            <a:off x="2050920" y="4149720"/>
            <a:ext cx="4716720" cy="24861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000cabt8"/>
          <p:cNvPicPr/>
          <p:nvPr/>
        </p:nvPicPr>
        <p:blipFill>
          <a:blip r:embed="rId4"/>
          <a:stretch/>
        </p:blipFill>
        <p:spPr>
          <a:xfrm>
            <a:off x="6084720" y="1773360"/>
            <a:ext cx="280836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0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3284640"/>
            <a:ext cx="7929720" cy="30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Жестокость оккупационного режима была такова, что, по самым скромным подсчётам, каждый пятый из оказавшихся под оккупацией семидесяти миллионов советских граждан не дожил до Поб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180584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спользованные интернет- источн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2013-07-22/yurgen-bertelsmann…v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66ff"/>
                </a:solidFill>
                <a:uFillTx/>
                <a:latin typeface="Arial"/>
              </a:rPr>
              <a:t>http://holocaust.ioso.ru/index.ht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айт, посвященный проблеме геноцида евреев в Европе в годы Второй мировой вой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66ff"/>
                </a:solidFill>
                <a:uFillTx/>
                <a:latin typeface="Arial"/>
              </a:rPr>
              <a:t>http://www.ostarbaytery.ru/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айт, содержащий видеодокументы по теме «Остарбайтеры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66ff"/>
                </a:solidFill>
                <a:uFillTx/>
                <a:latin typeface="Arial"/>
              </a:rPr>
              <a:t>http://holocaust.ioso.ru/documents/index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http://holocaust.ioso.ru/gallery/index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66ff"/>
                </a:solidFill>
                <a:uFillTx/>
                <a:latin typeface="Arial"/>
              </a:rPr>
              <a:t>http://holokost.by.ru/ost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айт, содержащий документы о холокос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66ff"/>
                </a:solidFill>
                <a:uFillTx/>
                <a:latin typeface="Arial"/>
              </a:rPr>
              <a:t>http://www.ostarbaytery.ru/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айт, содержащий видеодокументы по теме «Остарбайтеры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Arial"/>
              </a:rPr>
              <a:t>h</a:t>
            </a:r>
            <a:r>
              <a:rPr b="0" lang="ru-RU" sz="1600" spc="-1" strike="noStrike" u="sng">
                <a:solidFill>
                  <a:srgbClr val="0066ff"/>
                </a:solidFill>
                <a:uFillTx/>
                <a:latin typeface="Arial"/>
              </a:rPr>
              <a:t>ttp://etvnet.com/tv/dokumentalnyie-filmyi-online/tsvetyi-vremen-okkupatsii-ostarbajteryi/172530/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айт Центрального Интернет TV. Цветы времен оккуп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nnn0gofillues.vktarqet.pp.ua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3995640" y="692280"/>
            <a:ext cx="4889520" cy="31431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ST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»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действ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88920" y="1714680"/>
            <a:ext cx="3846600" cy="4357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3"/>
          <a:stretch/>
        </p:blipFill>
        <p:spPr>
          <a:xfrm>
            <a:off x="3995640" y="3933720"/>
            <a:ext cx="4897440" cy="25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Беларусь 1941-1944гг. Гитлеровцы сжигают белорусские деревни</a:t>
            </a:r>
            <a:br>
              <a:rPr sz="36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292480" y="1397160"/>
          <a:ext cx="4559040" cy="4062240"/>
        </p:xfrm>
        <a:graphic>
          <a:graphicData uri="http://schemas.openxmlformats.org/drawingml/2006/table">
            <a:tbl>
              <a:tblPr/>
              <a:tblGrid>
                <a:gridCol w="4559040"/>
              </a:tblGrid>
              <a:tr h="204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38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4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4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Rectangle 1"/>
          <p:cNvSpPr/>
          <p:nvPr/>
        </p:nvSpPr>
        <p:spPr>
          <a:xfrm>
            <a:off x="-233640" y="-504360"/>
            <a:ext cx="500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353025"/>
                </a:solidFill>
                <a:latin typeface="Georgia"/>
              </a:rPr>
              <a:t>  </a:t>
            </a:r>
            <a:r>
              <a:rPr b="0" lang="en-US" sz="900" spc="-1" strike="noStrike">
                <a:solidFill>
                  <a:srgbClr val="353025"/>
                </a:solidFill>
                <a:latin typeface="Georgia"/>
              </a:rPr>
              <a:t>                                                                 </a:t>
            </a:r>
            <a:r>
              <a:rPr b="0" lang="en-US" sz="9000" spc="-1" strike="noStrike">
                <a:solidFill>
                  <a:srgbClr val="353025"/>
                </a:solidFill>
                <a:latin typeface="Georgia"/>
              </a:rPr>
              <a:t> </a:t>
            </a:r>
            <a:r>
              <a:rPr b="0" lang="en-US" sz="900" spc="-1" strike="noStrike">
                <a:solidFill>
                  <a:srgbClr val="353025"/>
                </a:solidFill>
                <a:latin typeface="Georgia"/>
              </a:rPr>
              <a:t>                                                              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http://khatyn.by/photo/im_29.jpg"/>
          <p:cNvPicPr/>
          <p:nvPr/>
        </p:nvPicPr>
        <p:blipFill>
          <a:blip r:embed="rId1"/>
          <a:stretch/>
        </p:blipFill>
        <p:spPr>
          <a:xfrm>
            <a:off x="395280" y="1341360"/>
            <a:ext cx="3990960" cy="3143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http://khatyn.by/photo/im_30.jpg"/>
          <p:cNvPicPr/>
          <p:nvPr/>
        </p:nvPicPr>
        <p:blipFill>
          <a:blip r:embed="rId2"/>
          <a:stretch/>
        </p:blipFill>
        <p:spPr>
          <a:xfrm>
            <a:off x="5076720" y="1341360"/>
            <a:ext cx="3876840" cy="3143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http://khatyn.by/photo/im_28.jpg"/>
          <p:cNvPicPr/>
          <p:nvPr/>
        </p:nvPicPr>
        <p:blipFill>
          <a:blip r:embed="rId3"/>
          <a:stretch/>
        </p:blipFill>
        <p:spPr>
          <a:xfrm>
            <a:off x="2843280" y="3990960"/>
            <a:ext cx="3363840" cy="2728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838836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8022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925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1925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192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192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925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1925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" dur="1925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" dur="1925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1">
                                  <p:stCondLst>
                                    <p:cond delay="100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мотреть страшно.  А пережить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img886"/>
          <p:cNvPicPr/>
          <p:nvPr/>
        </p:nvPicPr>
        <p:blipFill>
          <a:blip r:embed="rId1"/>
          <a:stretch/>
        </p:blipFill>
        <p:spPr>
          <a:xfrm>
            <a:off x="1116000" y="2060640"/>
            <a:ext cx="2952720" cy="3600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img888"/>
          <p:cNvPicPr/>
          <p:nvPr/>
        </p:nvPicPr>
        <p:blipFill>
          <a:blip r:embed="rId2"/>
          <a:stretch/>
        </p:blipFill>
        <p:spPr>
          <a:xfrm>
            <a:off x="4427640" y="2060640"/>
            <a:ext cx="388764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971640" y="0"/>
          <a:ext cx="8172360" cy="6845400"/>
        </p:xfrm>
        <a:graphic>
          <a:graphicData uri="http://schemas.openxmlformats.org/drawingml/2006/table">
            <a:tbl>
              <a:tblPr/>
              <a:tblGrid>
                <a:gridCol w="2043000"/>
                <a:gridCol w="4086360"/>
                <a:gridCol w="2043000"/>
              </a:tblGrid>
              <a:tr h="498600">
                <a:tc gridSpan="3">
                  <a:txBody>
                    <a:bodyPr lIns="84600" rIns="8460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Информация о военнопленно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1560">
                <a:tc>
                  <a:txBody>
                    <a:bodyPr lIns="84600" rIns="8460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4600" rIns="8460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4600" rIns="8460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1400">
                <a:tc>
                  <a:txBody>
                    <a:bodyPr lIns="84600" rIns="8460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ff6600"/>
                          </a:solidFill>
                          <a:latin typeface="Trebuchet MS"/>
                          <a:ea typeface="Times New Roman"/>
                        </a:rPr>
                        <a:t>Фамил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16920" bIns="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Канцидал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4600" rIns="8460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1040">
                <a:tc>
                  <a:txBody>
                    <a:bodyPr lIns="84600" rIns="8460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ff6600"/>
                          </a:solidFill>
                          <a:latin typeface="Trebuchet MS"/>
                          <a:ea typeface="Times New Roman"/>
                        </a:rPr>
                        <a:t>Им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16920" bIns="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Тихон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4600" rIns="8460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1040">
                <a:tc>
                  <a:txBody>
                    <a:bodyPr lIns="84600" rIns="8460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ff6600"/>
                          </a:solidFill>
                          <a:latin typeface="Trebuchet MS"/>
                          <a:ea typeface="Times New Roman"/>
                        </a:rPr>
                        <a:t>Отчеств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16920" bIns="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Васильевич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4600" rIns="8460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1400">
                <a:tc>
                  <a:txBody>
                    <a:bodyPr lIns="84600" rIns="8460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ff6600"/>
                          </a:solidFill>
                          <a:latin typeface="Trebuchet MS"/>
                          <a:ea typeface="Times New Roman"/>
                        </a:rPr>
                        <a:t>Дата рождения/Возрас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16920" bIns="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1.06.19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4600" rIns="8460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1040">
                <a:tc>
                  <a:txBody>
                    <a:bodyPr lIns="84600" rIns="8460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ff6600"/>
                          </a:solidFill>
                          <a:latin typeface="Trebuchet MS"/>
                          <a:ea typeface="Times New Roman"/>
                        </a:rPr>
                        <a:t>Место рожден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16920" bIns="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Краснодарский край, Мингрельска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4600" rIns="8460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1040">
                <a:tc>
                  <a:txBody>
                    <a:bodyPr lIns="84600" rIns="8460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ff6600"/>
                          </a:solidFill>
                          <a:latin typeface="Trebuchet MS"/>
                          <a:ea typeface="Times New Roman"/>
                        </a:rPr>
                        <a:t>Лагерный номер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16920" bIns="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085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4600" rIns="8460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1040">
                <a:tc>
                  <a:txBody>
                    <a:bodyPr lIns="84600" rIns="8460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ff6600"/>
                          </a:solidFill>
                          <a:latin typeface="Trebuchet MS"/>
                          <a:ea typeface="Times New Roman"/>
                        </a:rPr>
                        <a:t>Дата пленен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16920" bIns="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0.07.194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4600" rIns="8460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1400">
                <a:tc>
                  <a:txBody>
                    <a:bodyPr lIns="84600" rIns="8460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ff6600"/>
                          </a:solidFill>
                          <a:latin typeface="Trebuchet MS"/>
                          <a:ea typeface="Times New Roman"/>
                        </a:rPr>
                        <a:t>Место пленен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16920" bIns="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Гороховк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4600" rIns="8460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1040">
                <a:tc>
                  <a:txBody>
                    <a:bodyPr lIns="84600" rIns="8460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ff6600"/>
                          </a:solidFill>
                          <a:latin typeface="Trebuchet MS"/>
                          <a:ea typeface="Times New Roman"/>
                        </a:rPr>
                        <a:t>Лагерь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16920" bIns="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шталаг VIII E (308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4600" rIns="8460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1040">
                <a:tc>
                  <a:txBody>
                    <a:bodyPr lIns="84600" rIns="8460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ff6600"/>
                          </a:solidFill>
                          <a:latin typeface="Trebuchet MS"/>
                          <a:ea typeface="Times New Roman"/>
                        </a:rPr>
                        <a:t>Судьб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16920" bIns="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Погиб в плену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4600" rIns="8460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1400">
                <a:tc>
                  <a:txBody>
                    <a:bodyPr lIns="84600" rIns="8460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ff6600"/>
                          </a:solidFill>
                          <a:latin typeface="Trebuchet MS"/>
                          <a:ea typeface="Times New Roman"/>
                        </a:rPr>
                        <a:t>Воинское звание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16920" bIns="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солдат (рядовой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4600" rIns="8460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1040">
                <a:tc>
                  <a:txBody>
                    <a:bodyPr lIns="84600" rIns="8460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ff6600"/>
                          </a:solidFill>
                          <a:latin typeface="Trebuchet MS"/>
                          <a:ea typeface="Times New Roman"/>
                        </a:rPr>
                        <a:t>Дата смерт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16920" bIns="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7.08.194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4600" rIns="8460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1040">
                <a:tc>
                  <a:txBody>
                    <a:bodyPr lIns="84600" rIns="8460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ff6600"/>
                          </a:solidFill>
                          <a:latin typeface="Trebuchet MS"/>
                          <a:ea typeface="Times New Roman"/>
                        </a:rPr>
                        <a:t>Место захоронен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16920" bIns="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Ламсдорф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4600" rIns="8460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1400">
                <a:tc>
                  <a:txBody>
                    <a:bodyPr lIns="84600" rIns="8460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ff6600"/>
                          </a:solidFill>
                          <a:latin typeface="Trebuchet MS"/>
                          <a:ea typeface="Times New Roman"/>
                        </a:rPr>
                        <a:t>Фамилия на латинице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16920" bIns="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anzida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4600" rIns="8460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1040">
                <a:tc>
                  <a:txBody>
                    <a:bodyPr lIns="84600" rIns="8460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ff6600"/>
                          </a:solidFill>
                          <a:latin typeface="Trebuchet MS"/>
                          <a:ea typeface="Times New Roman"/>
                        </a:rPr>
                        <a:t>Название источника информаци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16920" bIns="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ЦАМ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4600" rIns="8460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lIns="84600" rIns="8460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ff6600"/>
                          </a:solidFill>
                          <a:latin typeface="Trebuchet MS"/>
                          <a:ea typeface="Times New Roman"/>
                        </a:rPr>
                        <a:t>Номер фонда источника информаци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16920" bIns="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4600" rIns="8460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lIns="84600" rIns="8460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ff6600"/>
                          </a:solidFill>
                          <a:latin typeface="Trebuchet MS"/>
                          <a:ea typeface="Times New Roman"/>
                        </a:rPr>
                        <a:t>Номер описи источника информаци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16920" bIns="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7752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4600" rIns="8460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1920">
                <a:tc>
                  <a:txBody>
                    <a:bodyPr lIns="84600" rIns="8460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ff6600"/>
                          </a:solidFill>
                          <a:latin typeface="Trebuchet MS"/>
                          <a:ea typeface="Times New Roman"/>
                        </a:rPr>
                        <a:t>Номер дела источника информаци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16920" bIns="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9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4600" rIns="8460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45964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720796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точка веннопленного концлагеря ШТАЛАГ -308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прадед"/>
          <p:cNvPicPr/>
          <p:nvPr/>
        </p:nvPicPr>
        <p:blipFill>
          <a:blip r:embed="rId1"/>
          <a:stretch/>
        </p:blipFill>
        <p:spPr>
          <a:xfrm>
            <a:off x="250920" y="1989000"/>
            <a:ext cx="3744720" cy="4869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5200560" y="3232080"/>
            <a:ext cx="203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84" descr="пр3"/>
          <p:cNvPicPr/>
          <p:nvPr/>
        </p:nvPicPr>
        <p:blipFill>
          <a:blip r:embed="rId2"/>
          <a:stretch/>
        </p:blipFill>
        <p:spPr>
          <a:xfrm>
            <a:off x="5076720" y="1989000"/>
            <a:ext cx="386712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писки призывников, жителей станицы Мингрель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прадед1"/>
          <p:cNvPicPr/>
          <p:nvPr/>
        </p:nvPicPr>
        <p:blipFill>
          <a:blip r:embed="rId1"/>
          <a:stretch/>
        </p:blipFill>
        <p:spPr>
          <a:xfrm>
            <a:off x="395280" y="1666800"/>
            <a:ext cx="842472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нцлагерь Бухенваль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Содержимое 3" descr=""/>
          <p:cNvPicPr/>
          <p:nvPr/>
        </p:nvPicPr>
        <p:blipFill>
          <a:blip r:embed="rId1"/>
          <a:stretch/>
        </p:blipFill>
        <p:spPr>
          <a:xfrm>
            <a:off x="324000" y="1874880"/>
            <a:ext cx="3527280" cy="357012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4" descr=""/>
          <p:cNvPicPr/>
          <p:nvPr/>
        </p:nvPicPr>
        <p:blipFill>
          <a:blip r:embed="rId2"/>
          <a:stretch/>
        </p:blipFill>
        <p:spPr>
          <a:xfrm>
            <a:off x="5292720" y="1773360"/>
            <a:ext cx="2938320" cy="3592440"/>
          </a:xfrm>
          <a:prstGeom prst="rect">
            <a:avLst/>
          </a:prstGeom>
          <a:ln w="0">
            <a:noFill/>
          </a:ln>
        </p:spPr>
      </p:pic>
      <p:sp>
        <p:nvSpPr>
          <p:cNvPr id="140" name="TextBox 5"/>
          <p:cNvSpPr/>
          <p:nvPr/>
        </p:nvSpPr>
        <p:spPr>
          <a:xfrm>
            <a:off x="4067280" y="5589720"/>
            <a:ext cx="50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мья бывшего военнопленного концлагеря  Демченко Андрея Иванови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853272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1995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ети - остарбайтеры   </a:t>
            </a:r>
            <a:br>
              <a:rPr sz="44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 На момент угона в Германию им, соответственно, было не больше 12-14 лет.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" descr=""/>
          <p:cNvPicPr/>
          <p:nvPr/>
        </p:nvPicPr>
        <p:blipFill>
          <a:blip r:embed="rId1"/>
          <a:stretch/>
        </p:blipFill>
        <p:spPr>
          <a:xfrm>
            <a:off x="2124000" y="3213000"/>
            <a:ext cx="431820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4T18:39:38Z</dcterms:created>
  <dc:creator>Admin</dc:creator>
  <dc:description/>
  <dc:language>en-US</dc:language>
  <cp:lastModifiedBy>admin</cp:lastModifiedBy>
  <dcterms:modified xsi:type="dcterms:W3CDTF">2015-03-30T12:57:25Z</dcterms:modified>
  <cp:revision>60</cp:revision>
  <dc:subject/>
  <dc:title>Ч Е Л О В Е К в оккупации  из истории Великой Отечественной войны  Урок - конференция учащихся 11 класса </dc:title>
</cp:coreProperties>
</file>